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4.wmf" ContentType="image/x-wmf"/>
  <Override PartName="/ppt/media/image2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三  解决问题的策略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031169"/>
          <p:cNvSpPr/>
          <p:nvPr/>
        </p:nvSpPr>
        <p:spPr>
          <a:xfrm>
            <a:off x="254160" y="1517760"/>
            <a:ext cx="861984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甲、乙两个班共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，已知甲班人数的  和乙班人数的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相等。两个班各有多少人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设甲班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人，则乙班有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0-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x=  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0-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10-60=5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人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甲班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人，乙班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人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8" name="对象 1031173"/>
          <p:cNvGraphicFramePr/>
          <p:nvPr/>
        </p:nvGraphicFramePr>
        <p:xfrm>
          <a:off x="6291360" y="160020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对象 10311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91360" y="160020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对象 1031174"/>
          <p:cNvGraphicFramePr/>
          <p:nvPr/>
        </p:nvGraphicFramePr>
        <p:xfrm>
          <a:off x="8277120" y="1571760"/>
          <a:ext cx="2034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对象 10311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77120" y="1571760"/>
                    <a:ext cx="203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对象 1031175"/>
          <p:cNvGraphicFramePr/>
          <p:nvPr/>
        </p:nvGraphicFramePr>
        <p:xfrm>
          <a:off x="393840" y="316080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对象 10311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840" y="316080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对象 1031176"/>
          <p:cNvGraphicFramePr/>
          <p:nvPr/>
        </p:nvGraphicFramePr>
        <p:xfrm>
          <a:off x="1249200" y="3139920"/>
          <a:ext cx="2034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对象 103117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49200" y="313992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030145"/>
          <p:cNvSpPr/>
          <p:nvPr/>
        </p:nvSpPr>
        <p:spPr>
          <a:xfrm>
            <a:off x="233280" y="154296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名学生去划船，乘坐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条船正好坐满。大船和小船各需几条？请你用列表法解决问题。（小船限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，大船限乘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大船需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条，小船需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条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37" name="图片 1030151" descr=""/>
          <p:cNvPicPr/>
          <p:nvPr/>
        </p:nvPicPr>
        <p:blipFill>
          <a:blip r:embed="rId1"/>
          <a:stretch/>
        </p:blipFill>
        <p:spPr>
          <a:xfrm>
            <a:off x="1322280" y="2803680"/>
            <a:ext cx="6166080" cy="1672920"/>
          </a:xfrm>
          <a:prstGeom prst="rect">
            <a:avLst/>
          </a:prstGeom>
          <a:ln w="0">
            <a:noFill/>
          </a:ln>
        </p:spPr>
      </p:pic>
      <p:sp>
        <p:nvSpPr>
          <p:cNvPr id="138" name="矩形 1030152"/>
          <p:cNvSpPr/>
          <p:nvPr/>
        </p:nvSpPr>
        <p:spPr>
          <a:xfrm>
            <a:off x="1882800" y="3257640"/>
            <a:ext cx="974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矩形 1030155"/>
          <p:cNvSpPr/>
          <p:nvPr/>
        </p:nvSpPr>
        <p:spPr>
          <a:xfrm>
            <a:off x="3295800" y="3257640"/>
            <a:ext cx="97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矩形 1030156"/>
          <p:cNvSpPr/>
          <p:nvPr/>
        </p:nvSpPr>
        <p:spPr>
          <a:xfrm>
            <a:off x="4149720" y="3257640"/>
            <a:ext cx="2114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×8+4×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矩形 1030157"/>
          <p:cNvSpPr/>
          <p:nvPr/>
        </p:nvSpPr>
        <p:spPr>
          <a:xfrm>
            <a:off x="5973840" y="3257640"/>
            <a:ext cx="2114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多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矩形 1030158"/>
          <p:cNvSpPr/>
          <p:nvPr/>
        </p:nvSpPr>
        <p:spPr>
          <a:xfrm>
            <a:off x="1882800" y="3797280"/>
            <a:ext cx="974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矩形 1030159"/>
          <p:cNvSpPr/>
          <p:nvPr/>
        </p:nvSpPr>
        <p:spPr>
          <a:xfrm>
            <a:off x="3295800" y="3797280"/>
            <a:ext cx="97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矩形 1030160"/>
          <p:cNvSpPr/>
          <p:nvPr/>
        </p:nvSpPr>
        <p:spPr>
          <a:xfrm>
            <a:off x="4149720" y="3797280"/>
            <a:ext cx="2114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×8+5×4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矩形 1030161"/>
          <p:cNvSpPr/>
          <p:nvPr/>
        </p:nvSpPr>
        <p:spPr>
          <a:xfrm>
            <a:off x="6097680" y="3797280"/>
            <a:ext cx="2114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一样多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028097"/>
          <p:cNvSpPr/>
          <p:nvPr/>
        </p:nvSpPr>
        <p:spPr>
          <a:xfrm>
            <a:off x="195120" y="1441440"/>
            <a:ext cx="86202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玲参加数学竞赛，共做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道题，得分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9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，已知做对一题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，错一题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，问小玲做对几道题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假设小玲全部做对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×5=1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分）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-79=2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错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:21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+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题）   对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-3=1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题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小玲做对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道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185760" y="2003400"/>
            <a:ext cx="86202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套衣服中，裤子占总价的  ，上衣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元，裤子多少钱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5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-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  =7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元）答：裤子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元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4" name="对象 377030"/>
          <p:cNvGraphicFramePr/>
          <p:nvPr/>
        </p:nvGraphicFramePr>
        <p:xfrm>
          <a:off x="3978360" y="2692440"/>
          <a:ext cx="190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对象 377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8360" y="269244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对象 377031"/>
          <p:cNvGraphicFramePr/>
          <p:nvPr/>
        </p:nvGraphicFramePr>
        <p:xfrm>
          <a:off x="1589040" y="3332160"/>
          <a:ext cx="190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对象 377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9040" y="333216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对象 377032"/>
          <p:cNvGraphicFramePr/>
          <p:nvPr/>
        </p:nvGraphicFramePr>
        <p:xfrm>
          <a:off x="2397240" y="3332160"/>
          <a:ext cx="190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对象 3770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7240" y="333216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737282"/>
          <p:cNvSpPr/>
          <p:nvPr/>
        </p:nvSpPr>
        <p:spPr>
          <a:xfrm>
            <a:off x="254160" y="16984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鸡兔同笼，共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头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只脚。鸡和兔各有多少只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假设全是鸡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×2=4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8-48=2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兔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0÷2=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    鸡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4-10=1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鸡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4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只，兔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只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024001"/>
          <p:cNvSpPr/>
          <p:nvPr/>
        </p:nvSpPr>
        <p:spPr>
          <a:xfrm>
            <a:off x="244440" y="2308320"/>
            <a:ext cx="8620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五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32 </a:t>
            </a: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思考题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张球桌上同时进行乒乓球比赛，双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打的比单打的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。进行单打和双打比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赛的乒乓球桌各有几张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2" name="组合 1024008"/>
          <p:cNvGrpSpPr/>
          <p:nvPr/>
        </p:nvGrpSpPr>
        <p:grpSpPr>
          <a:xfrm>
            <a:off x="5473800" y="2712960"/>
            <a:ext cx="3390840" cy="1584360"/>
            <a:chOff x="5473800" y="2712960"/>
            <a:chExt cx="3390840" cy="1584360"/>
          </a:xfrm>
        </p:grpSpPr>
        <p:sp>
          <p:nvSpPr>
            <p:cNvPr id="93" name="矩形 1024007"/>
            <p:cNvSpPr/>
            <p:nvPr/>
          </p:nvSpPr>
          <p:spPr>
            <a:xfrm>
              <a:off x="5473800" y="2712960"/>
              <a:ext cx="3386160" cy="15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4" name="图片 1024009" descr=""/>
            <p:cNvPicPr/>
            <p:nvPr/>
          </p:nvPicPr>
          <p:blipFill>
            <a:blip r:embed="rId1"/>
            <a:stretch/>
          </p:blipFill>
          <p:spPr>
            <a:xfrm>
              <a:off x="5473800" y="2712960"/>
              <a:ext cx="3390840" cy="158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012737"/>
          <p:cNvSpPr/>
          <p:nvPr/>
        </p:nvSpPr>
        <p:spPr>
          <a:xfrm>
            <a:off x="254160" y="1405080"/>
            <a:ext cx="861984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假设单打桌数和双打桌数一样多，再根据总数进行调整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从表中可以看出，进行单打比赛的乒乓球桌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张，进行双打比赛的乒乓球桌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张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06440" y="2724120"/>
          <a:ext cx="6096240" cy="1285920"/>
        </p:xfrm>
        <a:graphic>
          <a:graphicData uri="http://schemas.openxmlformats.org/drawingml/2006/table">
            <a:tbl>
              <a:tblPr/>
              <a:tblGrid>
                <a:gridCol w="1357560"/>
                <a:gridCol w="1338120"/>
                <a:gridCol w="340056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单打桌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双打桌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单打与双打人数比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多了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多了</a:t>
                      </a: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025025"/>
          <p:cNvSpPr/>
          <p:nvPr/>
        </p:nvSpPr>
        <p:spPr>
          <a:xfrm>
            <a:off x="254160" y="169848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图示法巧解“鸡兔同笼”类问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一棵松树上有百灵鸟和松鼠，松鼠比百灵鸟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只，一共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条腿，问百灵鸟和松鼠各有多少只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×4=1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条）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8-12=3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条）     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+4=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条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百灵鸟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6÷6=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           松鼠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+3=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百灵鸟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只，松鼠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只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027073"/>
          <p:cNvSpPr/>
          <p:nvPr/>
        </p:nvSpPr>
        <p:spPr>
          <a:xfrm>
            <a:off x="254160" y="160488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鸡、兔同笼，鸡比兔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只，总足数为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7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问鸡、兔各几只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74-26×2=22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兔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22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+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=3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只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鸡：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7+26=63(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只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鸡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只，兔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只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014785"/>
          <p:cNvSpPr/>
          <p:nvPr/>
        </p:nvSpPr>
        <p:spPr>
          <a:xfrm>
            <a:off x="254160" y="153036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一填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六年级学生中男生占  ，女生占     ，男生与女生的人数比是（  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梨和苹果的数量比是（  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梨比苹果少     ，苹果比梨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多     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00" name="对象 1014802"/>
          <p:cNvGraphicFramePr/>
          <p:nvPr/>
        </p:nvGraphicFramePr>
        <p:xfrm>
          <a:off x="3606840" y="2604960"/>
          <a:ext cx="20304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对象 10148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6840" y="260496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对象 1014803"/>
          <p:cNvGraphicFramePr/>
          <p:nvPr/>
        </p:nvGraphicFramePr>
        <p:xfrm>
          <a:off x="5048280" y="2584440"/>
          <a:ext cx="58428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对象 101480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8280" y="2584440"/>
                    <a:ext cx="584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矩形 1014804"/>
          <p:cNvSpPr/>
          <p:nvPr/>
        </p:nvSpPr>
        <p:spPr>
          <a:xfrm>
            <a:off x="5181480" y="2320920"/>
            <a:ext cx="84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矩形 1014808"/>
          <p:cNvSpPr/>
          <p:nvPr/>
        </p:nvSpPr>
        <p:spPr>
          <a:xfrm>
            <a:off x="5202360" y="2711520"/>
            <a:ext cx="84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文本框 1014809"/>
          <p:cNvSpPr/>
          <p:nvPr/>
        </p:nvSpPr>
        <p:spPr>
          <a:xfrm>
            <a:off x="135000" y="2997720"/>
            <a:ext cx="1533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: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文本框 1014810"/>
          <p:cNvSpPr/>
          <p:nvPr/>
        </p:nvSpPr>
        <p:spPr>
          <a:xfrm>
            <a:off x="3119760" y="4509000"/>
            <a:ext cx="34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文本框 1014811"/>
          <p:cNvSpPr/>
          <p:nvPr/>
        </p:nvSpPr>
        <p:spPr>
          <a:xfrm>
            <a:off x="4110480" y="4509000"/>
            <a:ext cx="340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09" name="对象 1014812"/>
          <p:cNvGraphicFramePr/>
          <p:nvPr/>
        </p:nvGraphicFramePr>
        <p:xfrm>
          <a:off x="6461280" y="4616280"/>
          <a:ext cx="58392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对象 10148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1280" y="4616280"/>
                    <a:ext cx="5839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矩形 1014813"/>
          <p:cNvSpPr/>
          <p:nvPr/>
        </p:nvSpPr>
        <p:spPr>
          <a:xfrm>
            <a:off x="6594480" y="4352760"/>
            <a:ext cx="84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矩形 1014814"/>
          <p:cNvSpPr/>
          <p:nvPr/>
        </p:nvSpPr>
        <p:spPr>
          <a:xfrm>
            <a:off x="6615000" y="4743360"/>
            <a:ext cx="84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3" name="对象 1014815"/>
          <p:cNvGraphicFramePr/>
          <p:nvPr/>
        </p:nvGraphicFramePr>
        <p:xfrm>
          <a:off x="639720" y="5049720"/>
          <a:ext cx="58428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对象 10148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9720" y="5049720"/>
                    <a:ext cx="58428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矩形 1014816"/>
          <p:cNvSpPr/>
          <p:nvPr/>
        </p:nvSpPr>
        <p:spPr>
          <a:xfrm>
            <a:off x="773280" y="4786200"/>
            <a:ext cx="84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6" name="矩形 1014817"/>
          <p:cNvSpPr/>
          <p:nvPr/>
        </p:nvSpPr>
        <p:spPr>
          <a:xfrm>
            <a:off x="793800" y="5176800"/>
            <a:ext cx="84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17" name="组合 1014820"/>
          <p:cNvGrpSpPr/>
          <p:nvPr/>
        </p:nvGrpSpPr>
        <p:grpSpPr>
          <a:xfrm>
            <a:off x="1000080" y="3643200"/>
            <a:ext cx="5197680" cy="1000080"/>
            <a:chOff x="1000080" y="3643200"/>
            <a:chExt cx="5197680" cy="1000080"/>
          </a:xfrm>
        </p:grpSpPr>
        <p:sp>
          <p:nvSpPr>
            <p:cNvPr id="118" name="矩形 1014819"/>
            <p:cNvSpPr/>
            <p:nvPr/>
          </p:nvSpPr>
          <p:spPr>
            <a:xfrm>
              <a:off x="1000080" y="3643200"/>
              <a:ext cx="519156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19" name="图片 1014821" descr=""/>
            <p:cNvPicPr/>
            <p:nvPr/>
          </p:nvPicPr>
          <p:blipFill>
            <a:blip r:embed="rId9"/>
            <a:stretch/>
          </p:blipFill>
          <p:spPr>
            <a:xfrm>
              <a:off x="1000080" y="3643200"/>
              <a:ext cx="5197680" cy="100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15809"/>
          <p:cNvSpPr/>
          <p:nvPr/>
        </p:nvSpPr>
        <p:spPr>
          <a:xfrm>
            <a:off x="254160" y="1536840"/>
            <a:ext cx="861984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解决问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日是世界环保日，幸福小学五、六年级学生捡废塑料袋，五年级学生捡的废塑料袋占其中的  ，六年级学生捡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6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，五年级学生捡废塑料袋多少个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60÷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-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  =6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个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五年级学生捡废塑料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4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个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1" name="对象 1015812"/>
          <p:cNvGraphicFramePr/>
          <p:nvPr/>
        </p:nvGraphicFramePr>
        <p:xfrm>
          <a:off x="1650960" y="4208400"/>
          <a:ext cx="2034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对象 10158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420840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1015813"/>
          <p:cNvGraphicFramePr/>
          <p:nvPr/>
        </p:nvGraphicFramePr>
        <p:xfrm>
          <a:off x="2446200" y="420840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对象 10158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6200" y="420840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对象 1015814"/>
          <p:cNvGraphicFramePr/>
          <p:nvPr/>
        </p:nvGraphicFramePr>
        <p:xfrm>
          <a:off x="4578480" y="3135240"/>
          <a:ext cx="20304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对象 10158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8480" y="3135240"/>
                    <a:ext cx="203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43Z</dcterms:created>
  <dc:creator>世纪金榜</dc:creator>
  <dc:description/>
  <dc:language>en-US</dc:language>
  <cp:lastModifiedBy>admin</cp:lastModifiedBy>
  <dcterms:modified xsi:type="dcterms:W3CDTF">2018-01-22T00:34:16Z</dcterms:modified>
  <cp:revision>1318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